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066-5D2E-49A3-944E-BB8EE5FE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464-2069-4906-9B04-740065D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1AC-8201-4499-956E-86643C9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788-29D6-471A-99AE-7106BF22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16C-40DC-4BB2-A7BE-88B0553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547-7032-473E-A822-A398DE6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BE2-7B94-4FE1-B452-F6921C7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F3E-3310-4536-9F8F-3564CA6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084-EF3D-4B6A-BB25-B9EDF7C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F82-E582-4516-9F31-DFCED5F0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9AA-AD67-47B9-B82F-032ED21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E2F-CAE1-4CDE-951F-735E92D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050-CE15-4E39-9740-0F58757839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-214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7:05:44Z</dcterms:created>
  <dc:creator>Grupo Editorial</dc:creator>
  <dc:description/>
  <dc:language>en-US</dc:language>
  <cp:lastModifiedBy>inma</cp:lastModifiedBy>
  <dcterms:modified xsi:type="dcterms:W3CDTF">2014-09-22T15:03:02Z</dcterms:modified>
  <cp:revision>2</cp:revision>
  <dc:subject/>
  <dc:title>Sin título de diapositiva</dc:title>
</cp:coreProperties>
</file>